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DDC-173A-471D-A730-B414DB22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FD4-B2AC-46C2-8C7D-CE5EEDB1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40E-41D8-4DBC-ACEF-D42DF4AF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9E7-154C-424A-A049-A600EA2E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6E7-D78A-44D6-9B3F-09906EB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A04-E52D-4379-B7E1-589E841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B7D-BD5A-4EFF-BC54-150E79D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1B8-9120-48D0-BF34-D5F42E3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BE8-7EFA-4D57-B026-07329896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7D3-E30B-4C58-BF24-871B496B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046-4DE4-47A9-8638-D7C83CA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9AD-A15A-4FBE-B247-D67FFD1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427-72ED-4F69-9DCB-181906BE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765000"/>
            <a:ext cx="468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พื้นที่ผิวและปริมาตรกรว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ครูผู้สอน ส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ไพบูลย์ ศรีบุญม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ลุ่มสาระการเรียนรู้คณิต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ื่อง พื้นที่ผิวและปริมาตรรูปทรงเรขาคณ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ชั้นมัธยมศึกษาปีที่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รงเรียนบ้านดอนขี้เหล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สำนักงานเขตพื้นที่การศึกษาอุดรธานี เขต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3080" y="1413000"/>
            <a:ext cx="17794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47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6720" y="476280"/>
            <a:ext cx="93672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72720" y="476280"/>
            <a:ext cx="86364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6720" y="1701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836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h 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9800" y="155736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 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41440" y="693720"/>
                <a:ext cx="285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700360" y="76500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282920" y="693720"/>
                <a:ext cx="432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788000" y="54936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54936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2276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227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227664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227664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276640"/>
            <a:ext cx="8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35733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573360"/>
            <a:ext cx="14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299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99736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88000" y="299736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    +  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997360"/>
            <a:ext cx="2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932360" y="314172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43280" y="2421000"/>
                <a:ext cx="432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924360" y="357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350028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3789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5928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357336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10  + 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4360" y="4292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4149720"/>
            <a:ext cx="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414972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 1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4437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4941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79736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084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5589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5589720"/>
            <a:ext cx="9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01.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5589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558972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0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1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26028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ต้องการทำกรวยจากกระดาษให้มีรัศมีปากกรวยยาว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ความสูงเอียง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กรวยนี้ไม่มีฐาน จงหาพื้นที่กระดาษที่จะใช้ทำ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557360"/>
            <a:ext cx="8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71640" y="155736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155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484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1484280"/>
            <a:ext cx="2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03640" y="1628640"/>
                <a:ext cx="432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332000" y="2276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 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276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227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2133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2205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20500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2781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19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227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40360" y="33577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00720" y="3284640"/>
            <a:ext cx="50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328464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41497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4972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3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37372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54450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กระดาษมีพื้นที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537372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3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189000"/>
            <a:ext cx="2303280" cy="1068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1125360"/>
            <a:ext cx="503280" cy="865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90792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รงกระบอกมีรัศมีฐานยา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  และ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63640" y="162864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รงกระบอกมีปริมาต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611280" y="2781000"/>
            <a:ext cx="503280" cy="647640"/>
          </a:xfrm>
          <a:prstGeom prst="triangle">
            <a:avLst>
              <a:gd name="adj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 rot="10800000">
            <a:off x="611280" y="2635920"/>
            <a:ext cx="5061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2195640" y="2781000"/>
            <a:ext cx="503280" cy="647640"/>
          </a:xfrm>
          <a:prstGeom prst="triangle">
            <a:avLst>
              <a:gd name="adj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1403280" y="2781000"/>
            <a:ext cx="503280" cy="647640"/>
          </a:xfrm>
          <a:prstGeom prst="triangle">
            <a:avLst>
              <a:gd name="adj" fmla="val 48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 rot="10800000">
            <a:off x="1402920" y="2635920"/>
            <a:ext cx="5065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2195640" y="2635920"/>
            <a:ext cx="5061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364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ร้าง กรวยแต่ละอันมีรัศมียา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 ให้เท่ากับรัศมีฐานทรงกระบอก และ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ท่ากับรัศมีส่วนสูงทรงกระบอ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94172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วงทรา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รวยใส่ได้เต็มทรงกระบอกพอด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566100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5877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5661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40000" y="765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981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69372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276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ทนรัศมีฐาน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3213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ทนความสู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611280" y="2709720"/>
            <a:ext cx="1512720" cy="1727280"/>
          </a:xfrm>
          <a:prstGeom prst="triangle">
            <a:avLst>
              <a:gd name="adj" fmla="val 4857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 rot="10800000">
            <a:off x="610920" y="2419920"/>
            <a:ext cx="1522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84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32846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47640" y="2421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0328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128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411280" y="27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6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9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2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4" dur="250" autoRev="1" fill="hold"/>
                                        <p:tgtEl>
                                          <p:spTgt spid="2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7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0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95280" y="189000"/>
            <a:ext cx="73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ใส่ขนมมีเส้นผ่านศูนย์กลางของปากกรวย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จงหาความจุของกรวย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34136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ช้รัศมีกรว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1341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134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19640" y="1268280"/>
            <a:ext cx="34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ความยาว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4328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7640" y="19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92360" y="19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236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78136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67280" y="299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2709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78936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37893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ได้ ปริมาตร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5128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1164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928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3645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5164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2764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371628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[     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6720" y="371628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47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84720" y="4579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328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3564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8472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72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4870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2360" y="458136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7984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2436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4364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93080" y="4653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551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54450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1 × 3 ×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5734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1280" y="609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609300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5.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6000" y="609300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609300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2602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ใบตองจำนว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5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ชิ้น ใส่ขนมกล้วย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,10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บาศก์เซนติเมตร และกรวย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จงหาว่าเส้นผ่านศูนย์กลางของฐานกรวยจะยาวเท่าใ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1844640"/>
            <a:ext cx="53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50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ชิ้นจุ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,100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1844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35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ชิ้นจุได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1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50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9280" y="2421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32360" y="270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51640" y="249228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92360" y="3357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ห้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ทนรัศมี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76360" y="414972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40360" y="4365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40360" y="40784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4869000"/>
            <a:ext cx="11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ทนค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86200" y="479736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084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5128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501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795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501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88000" y="472428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79736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0072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5589720"/>
            <a:ext cx="50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587700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566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5157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5300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00720" y="494172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00720" y="4437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5734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5877000"/>
            <a:ext cx="50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3640" y="558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566100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987640" y="83664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64000" y="907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6728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7640" y="1484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155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ได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4720" y="29973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ส้นผ่านศูนย์กลางยา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40360" y="292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9080" y="292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292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2360" y="3718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9744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00720" y="36450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220500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ด้ รัศมีกรวยยา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9280" y="333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ngsana New"/>
              </a:rPr>
              <a:t>ตัวอย่างที่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ngsana New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อันหนึ่งสูงเอีย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7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มีเส้นผ่านศูนย์กลางของฐาน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จงหาปริมาตร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148428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2708280"/>
            <a:ext cx="17794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7715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35280" y="1771560"/>
            <a:ext cx="936360" cy="12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971280" y="1771560"/>
            <a:ext cx="863640" cy="12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35280" y="2997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74920" y="2131920"/>
            <a:ext cx="7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สูง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8000" y="2852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 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340000" y="1989000"/>
                <a:ext cx="285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698920" y="2060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64000" y="184464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27640" y="1773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27640" y="206064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4581360"/>
            <a:ext cx="21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ะต้องหา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9280" y="278136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ช้รัศมีกรว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0072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270828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ความยาว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3280" y="29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3591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7672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48360" y="3573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393372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3640" y="537372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24360" y="537372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64000" y="537372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068720" y="544500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4572000" y="537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11640" y="5302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5640" y="595008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458136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ห้สู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9640" y="537372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ากรูป ตามทฤษฎีปีทาโกรั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602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95008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64000" y="595008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6000" y="59500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8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9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0" dur="1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7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3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771640" y="26028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48000" y="331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0000" y="26028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40360" y="260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260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06560" y="76680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6560" y="8380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78200" y="76680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7668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98920" y="7668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2200" y="13413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46560" y="134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1280" y="127008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38560" y="134136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27280" y="134136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54200" y="184644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46560" y="1846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51280" y="184644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54200" y="23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656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51280" y="2349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00000" y="292428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5280" y="3068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364500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364500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80000" y="35020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3789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57336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4036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27640" y="357336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767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64000" y="357336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2436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80000" y="4005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80000" y="40766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84720" y="3716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56360" y="31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46530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1280" y="458136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2764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16360" y="458136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4836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564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5229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08360" y="522936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,004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522936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87280" y="515772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7640" y="1413000"/>
            <a:ext cx="1295640" cy="143964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2708280"/>
            <a:ext cx="1297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1916280"/>
            <a:ext cx="1511640" cy="216036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3860640"/>
            <a:ext cx="151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4500360" y="2420640"/>
            <a:ext cx="936360" cy="13683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276640"/>
            <a:ext cx="9349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076640"/>
            <a:ext cx="3168720" cy="719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724280"/>
            <a:ext cx="3168720" cy="14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7650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ูปเรขาคณิตสามมิติที่มีฐานเป็นรูปวงกลม มียอดแหลมที่ไม่อยู่บนระนาบเดียวกัน กับฐาน และเส้นที่ต่อระหว่างจุดยอดและจุดใดๆบนขอบของฐานเป็นส่วนของเส้นตรงเรียกรูปเรขาคณิตสามมิตินี้ว่า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869000"/>
            <a:ext cx="1729080" cy="57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716280"/>
            <a:ext cx="8654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280" y="3716280"/>
            <a:ext cx="8636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4581360"/>
            <a:ext cx="1873080" cy="792360"/>
          </a:xfrm>
          <a:prstGeom prst="wedgeRoundRectCallout">
            <a:avLst>
              <a:gd name="adj1" fmla="val -180425"/>
              <a:gd name="adj2" fmla="val 32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รูปว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260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ารวาด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852640"/>
            <a:ext cx="1728720" cy="576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97000"/>
            <a:ext cx="2449440" cy="1079640"/>
          </a:xfrm>
          <a:prstGeom prst="wedgeRoundRectCallout">
            <a:avLst>
              <a:gd name="adj1" fmla="val 87652"/>
              <a:gd name="adj2" fmla="val 138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ริ่มวาด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นแนววงร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11640" y="1844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1052640"/>
            <a:ext cx="2232000" cy="2089080"/>
          </a:xfrm>
          <a:prstGeom prst="wedgeRoundRectCallout">
            <a:avLst>
              <a:gd name="adj1" fmla="val -149430"/>
              <a:gd name="adj2" fmla="val 1892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าก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นแนวด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ี่ตั้งฉากกับ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347640" y="1844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184464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365720"/>
            <a:ext cx="1728720" cy="5760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573360"/>
            <a:ext cx="2449440" cy="1079640"/>
          </a:xfrm>
          <a:prstGeom prst="wedgeRoundRectCallout">
            <a:avLst>
              <a:gd name="adj1" fmla="val 95106"/>
              <a:gd name="adj2" fmla="val 48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ริ่มวาด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นแนววงร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11640" y="458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16280"/>
            <a:ext cx="2376360" cy="2089080"/>
          </a:xfrm>
          <a:prstGeom prst="wedgeRoundRectCallout">
            <a:avLst>
              <a:gd name="adj1" fmla="val -131828"/>
              <a:gd name="adj2" fmla="val 21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ากส่วน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นแนวด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ี่ตั้งฉากกับ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724280"/>
            <a:ext cx="8636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11280" y="4724280"/>
            <a:ext cx="86508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4720" y="2781360"/>
            <a:ext cx="1728720" cy="647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2700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44720" y="1268280"/>
            <a:ext cx="86328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1268280"/>
            <a:ext cx="8654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4720" y="30686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62864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วนสูงเอีย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1080" y="220500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วนสูง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306864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ฐานรูปว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1080" y="90792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ยอ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81080" y="1197000"/>
            <a:ext cx="1440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000" y="1916280"/>
            <a:ext cx="1079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908000" y="24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484360" y="3212640"/>
            <a:ext cx="1008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93372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ฐ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547280" y="3141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486900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กรวยตร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716360" y="1557360"/>
                <a:ext cx="316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724360" y="260280"/>
            <a:ext cx="28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สัมพันธ์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  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ามทฤษฎีบทปีทาโกรั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028000" y="33336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796000" y="3716280"/>
            <a:ext cx="1728720" cy="647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95640" y="220356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203560"/>
            <a:ext cx="8650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07664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58136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458136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4581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84720" y="465300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227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796000" y="2781360"/>
                <a:ext cx="315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15636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29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360" y="299736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052640"/>
            <a:ext cx="287964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369160" y="2878920"/>
            <a:ext cx="370080" cy="144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2565360"/>
            <a:ext cx="792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34920" y="2565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3789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55736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63640" y="2781360"/>
                <a:ext cx="316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843280" y="2781360"/>
                <a:ext cx="315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1557360"/>
                <a:ext cx="316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11280" y="29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421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4365720"/>
            <a:ext cx="25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365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2720" y="4292640"/>
                <a:ext cx="246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1413000"/>
            <a:ext cx="1368360" cy="647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5080" y="476280"/>
            <a:ext cx="6476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4360" y="47628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04640"/>
            <a:ext cx="1368360" cy="1295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060640"/>
            <a:ext cx="934920" cy="21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219280" y="2060280"/>
            <a:ext cx="36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19280" y="3141720"/>
            <a:ext cx="36036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33360"/>
            <a:ext cx="3241800" cy="1513080"/>
          </a:xfrm>
          <a:prstGeom prst="wedgeRoundRectCallout">
            <a:avLst>
              <a:gd name="adj1" fmla="val -75222"/>
              <a:gd name="adj2" fmla="val 26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วนของ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เป็นรูปว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565360"/>
            <a:ext cx="2879640" cy="1513080"/>
          </a:xfrm>
          <a:prstGeom prst="wedgeRoundRectCallout">
            <a:avLst>
              <a:gd name="adj1" fmla="val 83240"/>
              <a:gd name="adj2" fmla="val -235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่วนของข้า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3573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73440" y="3500280"/>
                <a:ext cx="245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00000" y="4508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4508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450864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450864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 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รูปว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229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229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005360" y="5259240"/>
                <a:ext cx="195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356000" y="522936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5229360"/>
            <a:ext cx="82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177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134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63640" y="549360"/>
                <a:ext cx="287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18900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่งไม้รูปร่างเป็นกรวยอันหนึ่งมีเส้นผ่านศูนย์กลาง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2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ความสู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จงหาพื้นที่ผิวกรวย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26828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แนวคิด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ต้องหา  รัศมี และ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184464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รวยมีรัศมี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ส้นผ่านศูนย์กลางหารด้วย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860640"/>
            <a:ext cx="177984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2924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2924280"/>
            <a:ext cx="93672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9280" y="2924280"/>
            <a:ext cx="86364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4149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28464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h 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00536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r 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8000" y="3141720"/>
                <a:ext cx="285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50920" y="1916280"/>
            <a:ext cx="82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637000"/>
            <a:ext cx="17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วยมีรัศม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492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21300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38560" y="515772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515772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8920" y="515772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03640" y="522936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34800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6920" y="51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443700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 ความสูงเอียง เป็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219640" y="4437000"/>
                <a:ext cx="285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50920" y="5157720"/>
            <a:ext cx="26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ามทฤษฎีบทปีทาโกรั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566100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0720" y="56610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558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5661000"/>
            <a:ext cx="4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5805360"/>
                <a:ext cx="432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20364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3640" y="623736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708360" y="60930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6093000"/>
            <a:ext cx="7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95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1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2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38:03Z</dcterms:created>
  <dc:creator>boy</dc:creator>
  <dc:description/>
  <dc:language>en-US</dc:language>
  <cp:lastModifiedBy>IT_N</cp:lastModifiedBy>
  <dcterms:modified xsi:type="dcterms:W3CDTF">2009-03-15T01:21:39Z</dcterms:modified>
  <cp:revision>23</cp:revision>
  <dc:subject/>
  <dc:title>กรวย</dc:title>
</cp:coreProperties>
</file>